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FA5-32C0-4779-9878-7B03537E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175-8882-4C80-92A6-D3F4354E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ED9-F571-43D9-99A1-20885F22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DFC-760F-4E57-B7FF-490C5111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9A7-CD31-451F-953D-77CF8F0C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ED5-95A2-467D-9DB8-AD32B572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427-899C-418E-AFAC-3588B8BD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165-2615-45EE-B53A-AEFBADFF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C2A-DC9E-45D8-9E1F-DCB58E95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DFE-9445-4745-8A43-588DB4D2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8DF-3BB0-4FF0-B5B5-C23B36C8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574-E59E-4D19-804A-999F1DFF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1289-7973-47C3-A533-152E8C33F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rylonglife.com/fobii-spisok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32720" y="5956200"/>
            <a:ext cx="2136600" cy="712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73280" y="260280"/>
            <a:ext cx="4230360" cy="5184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существуют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различные методы лечения фобий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и страхов. Наиболее эффективна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бавления от фобий,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ая наилучшим образом зарекомендовала себя на Западе – когнитивно-поведенческая терапия. В ее основе лежит работа с психологом: причем психолог работает с механизмом страха напрямую – здесь и сейчас, что позволяет быстро достигать результатов (всего за 2-4 часа работы). Во время первого занятия Вы получаете практические навыки самостоятельного контроля своих эмоций. Т.е. психолог выступает в качестве тренера, задача которого – дать вам ключ к преодолению страха, а воспользоваться им Вы сможете сами в нужный мо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90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040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2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 — тест для самооценки тревожных расстройств (неврозов), разработанный в Университете Дьюка Вильямом За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363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74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является инструментом для измерения степени выраженности различных фобий, панических атак и других тревожных расстройств. Оценка тяжести тревожного расстройства по шкале проводится на основе самооценки пациента. Шкала применяется в диагностических и клинических исследованиях тревоги, предварительной диагностике тревожных расстройств, эпидемиологических исследованиях и клинических испытаниях лекарственных сред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содержит 20 утверждений, по каждому из которых исследуемый дает ответ по частоте возникновения у него того или иного признака, ранжированной в четырех градациях: «редко», «иногда», «часто» и «очень часто». Исследуемого просят отметить соответствующие ячейки бланка шкалы, которые точнее всего отражают его состояние за последнюю неделю. По результатам ответов на все 20 пунктов определяется суммарный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86328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себя более нервным(ой) и тревожным(ой), чем обыч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испытываю чувство страха совершенно без причи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легко огорчаюсь или впадаю в пани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, что я не могу собраться и взять себя в р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 благополучия, я чувствую, что со мной не случится ничего плох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ои руки и ноги дрожат и трясу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ют головные боли, боли в шее и сп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разбитость и быстро уста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спокоен(а) и не суетлив(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ет ощущение учащенного сердцеби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046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приступы головокруж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обмороки или я чувствую, что могу потерять созн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дышу свобод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испытываю ощущение онемения и покалывания в пальцах рук и но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боли в желудке и расстройства пищевар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позывы к мочеиспусканию бывают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и руки сухие и тепл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е лицо «горит» и красне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легко засыпаю и утром просыпаюсь отдохнувшим(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ня мучают ночные кошма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1, 2, 3, 4, 6, 7, 8, 10, 11, 12, 14, 15, 16, 18 и 20 оцениваются следующим образом: «редко» — 1; «иногда» — 2; «часто» — 3; «очень часто» —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5, 9, 13, 17 и 19 шкалы оцениваются следующим образом: «редко» — 4; «иногда» — 3; «часто» — 2; «очень часто» —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ценка суммарного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44 — Н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-59 — Легкое тревожное расстройство или средне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-74 — Выраженное тревожное расстройство или тревожное расстройство тяжелой степ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-80 — Тревожное расстройство крайне тяжело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54080"/>
            <a:ext cx="8637480" cy="111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520" y="3446640"/>
            <a:ext cx="8637480" cy="48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68360" y="4002120"/>
            <a:ext cx="43182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ый распространенны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атофобия. Боязнь смерти,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ктрофобия. Боязнь призр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рофобия. Страх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акнофобия. Боязнь па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члуофобия. Боязнь тем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устрофобия. Страх замкнутых простран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зофобия. Боязнь грязи и микро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дайофобия. Страх перед зме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самые необычные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ксакосиойгексеконтагексафобия. Боязнь числа — 66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улрофобия. Страхи при виде клоу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бофобия. Панический страх перед фоб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тидаефобия. Навязчивый страх, что где-то в мире есть утка, следящая за 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офобия — боязнь выхода в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нтерафобия. Боязнь тё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обофия. Страх остаться без связи, телеф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тофобия. Страх перед стоматологами и процессом лечения з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ritannic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и и фобии — подробный список того, чего зря боятся…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erylonglife.com/fobii-spiso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ервый взгляд, разница между страхом и фобией небольшая. Там страшно, здесь страш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амом деле, фобия – это иррациональный, панический, неконтролируемый, навязчивый, болезненный УЖАС, вынуждающий человека избегать относительно безопасных ситуаций или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стра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8929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бии следует строго отличать от бреда. При фобическом синдроме больной ясно осознает навязчивый, болезненный характер одолевающего его страха, что является отличительной особенностью невротического уровня расстройств. В случаях бреда больной глубоко уверен в "реальности" собственного страха, критика к своему состоянию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ая часть фобий является психическим отклонением и по сути они должны подлежать лечению. Серьезные и не очень, глупые и обоснованные, постоянные и периодические фобии. Все подробности должен выяснять только врач. Иначе есть риск ‘подхватить’ следующую фобию, хорошим питанием для которой будут уже существующ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все фобии признаны психическим отклонением. Часть из них является лишь некоторой проблемой реакции организма от принятого стандартна. И чаще всего, причина этого находится где-то очень недалеко, что для хорошего врача не составляет больших проблем найти ее, и исправ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ками фобии можно назвать регулярное избегание ситуации, в которой возникает ощущение страха, и наступление приступов паники. Их легко распознать по следующим признак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удушья, спазмы в гор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енное сердцебиение (сердце выскакивает из груди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слабости, оцепенение т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, что вот-вот наступит обмор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ильный холодный п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сильного страха, ужа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ожь во всем те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вота или расстройство желу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о кажется “не своим”, перестает слуш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того, что сходишь с 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есть хотя бы четыре из этих признаков, можно предположить наличие фоб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чение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5600" y="1706400"/>
            <a:ext cx="5752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05:26Z</dcterms:created>
  <dc:creator>Климова</dc:creator>
  <dc:description/>
  <dc:language>en-US</dc:language>
  <cp:lastModifiedBy>User</cp:lastModifiedBy>
  <dcterms:modified xsi:type="dcterms:W3CDTF">2012-11-12T11:15:47Z</dcterms:modified>
  <cp:revision>4</cp:revision>
  <dc:subject/>
  <dc:title>Фрустр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040000000000010250600207f5200358026400</vt:lpwstr>
  </property>
</Properties>
</file>